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DE72-5C85-4A9A-A869-D6C147471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3F76-6EED-46C4-AAE9-4AF3B619C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88E3-A0E1-419D-9312-7782196D8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8490-95A1-4BA6-B500-6141AB6C4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C994-FE39-430E-853C-E0831C6C3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6446-937C-464E-ACC0-583F5509F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095E-824D-49AC-82D3-F73F8F772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670C-1B54-4E4B-A991-2FB1EE032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39E1-729D-47B9-9B2A-022A64CD2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5646-EE69-4A95-AB71-C4D69C720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BC05-3102-4F67-9E67-229009159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C371-B41D-4168-96C1-7195B467C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7AC8BC-3F68-4DD6-B7C2-FFD21BBFFCD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da SPM-Jour Fi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2160" y="1371600"/>
            <a:ext cx="771228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change reques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 m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Projek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opar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lyss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-C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nelo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/ Organisatorisches / Action Ite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6000" y="1346040"/>
          <a:ext cx="8458200" cy="675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isks and Actio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14300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Siemens-Mitarbeiter</cp:lastModifiedBy>
  <cp:lastPrinted>2003-07-02T13:24:00Z</cp:lastPrinted>
  <dcterms:modified xsi:type="dcterms:W3CDTF">2003-09-24T09:07:08Z</dcterms:modified>
  <cp:revision>77</cp:revision>
  <dc:subject/>
  <dc:title>No Slide Title</dc:title>
</cp:coreProperties>
</file>